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0C93-5962-462E-99C6-65185C07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B281-41B9-4960-8105-2712A32B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660E-D9D3-4F65-A350-F2161CC0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7ECD-0178-4E1C-AA33-564EF358B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6ED-42B7-4728-9C7D-3955EDD11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CB1-1104-41B2-886D-42CE292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0A5-5567-4F5F-82EE-A4194B3E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7FF-BD59-466F-A2D0-8B8E81E3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B96-F2D7-41DC-AEFD-FE5FEC77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0B4-6E02-44DE-87B9-AE4548C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448-4FCA-45A4-9CEB-99D2B741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B07-BC66-4E87-9A05-636E92B0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90B-4862-4312-86A6-5C9A0B2A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89D-EEFA-4BDD-B773-F0FD5AC0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84C-7809-405F-9C82-5F71C4EB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4CB-4E18-4158-A3B6-DFDE570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27E-8C43-46D5-85A5-3141CAE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C974-5B18-4B83-949D-1DF05D67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www.teachertools.co.nz/order-books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1295280" y="1523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ving Hundr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14400" y="23623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am learning how knowing 10 ones make one 10 and 10 tens make 100 can help me solve problems like 567 + □ = 8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5"/>
          <p:cNvCxnSpPr/>
          <p:nvPr/>
        </p:nvCxnSpPr>
        <p:spPr>
          <a:xfrm>
            <a:off x="1904760" y="3008160"/>
            <a:ext cx="2972520" cy="2692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55" name="Straight Arrow Connector 28"/>
          <p:cNvCxnSpPr/>
          <p:nvPr/>
        </p:nvCxnSpPr>
        <p:spPr>
          <a:xfrm flipH="1">
            <a:off x="1751760" y="2698920"/>
            <a:ext cx="3251880" cy="15451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56" name="Oval 1"/>
          <p:cNvSpPr/>
          <p:nvPr/>
        </p:nvSpPr>
        <p:spPr>
          <a:xfrm>
            <a:off x="152280" y="343224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152280" y="40417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1"/>
          <p:cNvSpPr/>
          <p:nvPr/>
        </p:nvSpPr>
        <p:spPr>
          <a:xfrm>
            <a:off x="152280" y="46483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2"/>
          <p:cNvSpPr/>
          <p:nvPr/>
        </p:nvSpPr>
        <p:spPr>
          <a:xfrm>
            <a:off x="152280" y="52578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3"/>
          <p:cNvSpPr/>
          <p:nvPr/>
        </p:nvSpPr>
        <p:spPr>
          <a:xfrm>
            <a:off x="152280" y="586728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4"/>
          <p:cNvSpPr/>
          <p:nvPr/>
        </p:nvSpPr>
        <p:spPr>
          <a:xfrm>
            <a:off x="765000" y="3435480"/>
            <a:ext cx="530280" cy="52992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5"/>
          <p:cNvSpPr/>
          <p:nvPr/>
        </p:nvSpPr>
        <p:spPr>
          <a:xfrm>
            <a:off x="765000" y="404496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65000" y="46512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7"/>
          <p:cNvSpPr/>
          <p:nvPr/>
        </p:nvSpPr>
        <p:spPr>
          <a:xfrm>
            <a:off x="765000" y="526104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765000" y="58705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752480" y="444960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9"/>
          <p:cNvSpPr/>
          <p:nvPr/>
        </p:nvSpPr>
        <p:spPr>
          <a:xfrm>
            <a:off x="3809880" y="3435480"/>
            <a:ext cx="121932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3809880" y="4005360"/>
            <a:ext cx="121932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3809880" y="457200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"/>
          <p:cNvSpPr/>
          <p:nvPr/>
        </p:nvSpPr>
        <p:spPr>
          <a:xfrm>
            <a:off x="3809880" y="5148360"/>
            <a:ext cx="121932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3"/>
          <p:cNvSpPr/>
          <p:nvPr/>
        </p:nvSpPr>
        <p:spPr>
          <a:xfrm>
            <a:off x="3809880" y="571500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5181480" y="342900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6"/>
          <p:cNvSpPr/>
          <p:nvPr/>
        </p:nvSpPr>
        <p:spPr>
          <a:xfrm>
            <a:off x="5181480" y="399888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7"/>
          <p:cNvSpPr/>
          <p:nvPr/>
        </p:nvSpPr>
        <p:spPr>
          <a:xfrm>
            <a:off x="5181480" y="456552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8"/>
          <p:cNvSpPr/>
          <p:nvPr/>
        </p:nvSpPr>
        <p:spPr>
          <a:xfrm>
            <a:off x="5181480" y="514188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5181480" y="570852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0"/>
          <p:cNvSpPr/>
          <p:nvPr/>
        </p:nvSpPr>
        <p:spPr>
          <a:xfrm>
            <a:off x="6858000" y="4495680"/>
            <a:ext cx="121932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134604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2"/>
          <p:cNvSpPr/>
          <p:nvPr/>
        </p:nvSpPr>
        <p:spPr>
          <a:xfrm>
            <a:off x="6477120" y="4565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6"/>
          <p:cNvSpPr/>
          <p:nvPr/>
        </p:nvSpPr>
        <p:spPr>
          <a:xfrm>
            <a:off x="307800" y="1295280"/>
            <a:ext cx="731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wants to but a bike worth $300 but he only has $246. How much more money does he need? 246 + …… =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0"/>
          <p:cNvSpPr/>
          <p:nvPr/>
        </p:nvSpPr>
        <p:spPr>
          <a:xfrm>
            <a:off x="3657600" y="44863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1"/>
          <p:cNvSpPr/>
          <p:nvPr/>
        </p:nvSpPr>
        <p:spPr>
          <a:xfrm>
            <a:off x="3657600" y="509256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2"/>
          <p:cNvSpPr/>
          <p:nvPr/>
        </p:nvSpPr>
        <p:spPr>
          <a:xfrm>
            <a:off x="3657600" y="57024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3"/>
          <p:cNvSpPr/>
          <p:nvPr/>
        </p:nvSpPr>
        <p:spPr>
          <a:xfrm>
            <a:off x="3657600" y="631188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4"/>
          <p:cNvSpPr/>
          <p:nvPr/>
        </p:nvSpPr>
        <p:spPr>
          <a:xfrm>
            <a:off x="3646440" y="38671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8"/>
          <p:cNvSpPr/>
          <p:nvPr/>
        </p:nvSpPr>
        <p:spPr>
          <a:xfrm>
            <a:off x="4270320" y="63151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0"/>
          <p:cNvSpPr/>
          <p:nvPr/>
        </p:nvSpPr>
        <p:spPr>
          <a:xfrm>
            <a:off x="2338560" y="53211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1"/>
          <p:cNvSpPr/>
          <p:nvPr/>
        </p:nvSpPr>
        <p:spPr>
          <a:xfrm>
            <a:off x="2338560" y="568152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2338560" y="60069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3"/>
          <p:cNvSpPr/>
          <p:nvPr/>
        </p:nvSpPr>
        <p:spPr>
          <a:xfrm>
            <a:off x="2338560" y="63579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966960" y="629136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4160" y="190512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ord how much money Adam already has ($24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966960" y="5681520"/>
            <a:ext cx="121896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54160" y="220968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dd $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4254480" y="45054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4254480" y="511164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7"/>
          <p:cNvSpPr/>
          <p:nvPr/>
        </p:nvSpPr>
        <p:spPr>
          <a:xfrm>
            <a:off x="4254480" y="5721480"/>
            <a:ext cx="530280" cy="52992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8"/>
          <p:cNvSpPr/>
          <p:nvPr/>
        </p:nvSpPr>
        <p:spPr>
          <a:xfrm>
            <a:off x="4243320" y="38862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045120" y="5359320"/>
            <a:ext cx="228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mount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4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387520" y="2209680"/>
            <a:ext cx="57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ten $1 coins can now be exchanged for one $10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0"/>
          <p:cNvSpPr/>
          <p:nvPr/>
        </p:nvSpPr>
        <p:spPr>
          <a:xfrm>
            <a:off x="10515600" y="368136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7"/>
          <p:cNvSpPr/>
          <p:nvPr/>
        </p:nvSpPr>
        <p:spPr>
          <a:xfrm>
            <a:off x="3646440" y="3681360"/>
            <a:ext cx="978120" cy="332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1"/>
          <p:cNvSpPr/>
          <p:nvPr/>
        </p:nvSpPr>
        <p:spPr>
          <a:xfrm flipH="1">
            <a:off x="3786120" y="3657600"/>
            <a:ext cx="774720" cy="332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" y="274320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e need to add five more $10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5"/>
          <p:cNvSpPr/>
          <p:nvPr/>
        </p:nvSpPr>
        <p:spPr>
          <a:xfrm>
            <a:off x="2338560" y="3156120"/>
            <a:ext cx="121896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2338560" y="350820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7"/>
          <p:cNvSpPr/>
          <p:nvPr/>
        </p:nvSpPr>
        <p:spPr>
          <a:xfrm>
            <a:off x="2338560" y="38829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8"/>
          <p:cNvSpPr/>
          <p:nvPr/>
        </p:nvSpPr>
        <p:spPr>
          <a:xfrm>
            <a:off x="2338560" y="4280040"/>
            <a:ext cx="121896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9"/>
          <p:cNvSpPr/>
          <p:nvPr/>
        </p:nvSpPr>
        <p:spPr>
          <a:xfrm>
            <a:off x="2338560" y="46497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6553080" y="5635800"/>
            <a:ext cx="12826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099040" y="2743200"/>
            <a:ext cx="30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ten $10 notes can now be exchanged for one $1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2"/>
          <p:cNvSpPr/>
          <p:nvPr/>
        </p:nvSpPr>
        <p:spPr>
          <a:xfrm>
            <a:off x="10515600" y="4486320"/>
            <a:ext cx="121932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73"/>
          <p:cNvSpPr/>
          <p:nvPr/>
        </p:nvSpPr>
        <p:spPr>
          <a:xfrm flipH="1">
            <a:off x="2338560" y="3065400"/>
            <a:ext cx="1225440" cy="3944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74"/>
          <p:cNvSpPr/>
          <p:nvPr/>
        </p:nvSpPr>
        <p:spPr>
          <a:xfrm>
            <a:off x="2338560" y="3095640"/>
            <a:ext cx="1225440" cy="38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254160" y="4505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now have 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5270400" y="6172200"/>
            <a:ext cx="35686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… 246 + 54 =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-0.89167 0.18311 E">
                                      <p:cBhvr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1.05 0.08797 E">
                                      <p:cBhvr>
                                        <p:cTn id="15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"/>
          <p:cNvGraphicFramePr/>
          <p:nvPr/>
        </p:nvGraphicFramePr>
        <p:xfrm>
          <a:off x="8305920" y="45720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45720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6"/>
          <p:cNvSpPr/>
          <p:nvPr/>
        </p:nvSpPr>
        <p:spPr>
          <a:xfrm>
            <a:off x="307800" y="1295280"/>
            <a:ext cx="731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 wants a key board which costs $400. She has $297 how much more does she n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3657600" y="44863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3657600" y="509256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3657600" y="57024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>
            <a:off x="3657600" y="631188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4"/>
          <p:cNvSpPr/>
          <p:nvPr/>
        </p:nvSpPr>
        <p:spPr>
          <a:xfrm>
            <a:off x="3646440" y="38671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8"/>
          <p:cNvSpPr/>
          <p:nvPr/>
        </p:nvSpPr>
        <p:spPr>
          <a:xfrm>
            <a:off x="4270320" y="631512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2338560" y="53211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2338560" y="568152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2338560" y="60069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3"/>
          <p:cNvSpPr/>
          <p:nvPr/>
        </p:nvSpPr>
        <p:spPr>
          <a:xfrm>
            <a:off x="2338560" y="635796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0"/>
          <p:cNvSpPr/>
          <p:nvPr/>
        </p:nvSpPr>
        <p:spPr>
          <a:xfrm>
            <a:off x="966960" y="629136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54160" y="190512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ord how much money Kate already has ($29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966960" y="5681520"/>
            <a:ext cx="1218960" cy="49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54160" y="220968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dd $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5"/>
          <p:cNvSpPr/>
          <p:nvPr/>
        </p:nvSpPr>
        <p:spPr>
          <a:xfrm>
            <a:off x="4254480" y="45054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6"/>
          <p:cNvSpPr/>
          <p:nvPr/>
        </p:nvSpPr>
        <p:spPr>
          <a:xfrm>
            <a:off x="4254480" y="511164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7"/>
          <p:cNvSpPr/>
          <p:nvPr/>
        </p:nvSpPr>
        <p:spPr>
          <a:xfrm>
            <a:off x="4254480" y="5721480"/>
            <a:ext cx="530280" cy="52992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8"/>
          <p:cNvSpPr/>
          <p:nvPr/>
        </p:nvSpPr>
        <p:spPr>
          <a:xfrm>
            <a:off x="4243320" y="3886200"/>
            <a:ext cx="530280" cy="530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045120" y="5359320"/>
            <a:ext cx="228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mount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3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387520" y="2209680"/>
            <a:ext cx="57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ten $1 coins can now be exchanged for one $10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0"/>
          <p:cNvSpPr/>
          <p:nvPr/>
        </p:nvSpPr>
        <p:spPr>
          <a:xfrm>
            <a:off x="10515600" y="3681360"/>
            <a:ext cx="121932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7"/>
          <p:cNvSpPr/>
          <p:nvPr/>
        </p:nvSpPr>
        <p:spPr>
          <a:xfrm>
            <a:off x="3646440" y="3681360"/>
            <a:ext cx="978120" cy="332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61"/>
          <p:cNvSpPr/>
          <p:nvPr/>
        </p:nvSpPr>
        <p:spPr>
          <a:xfrm flipH="1">
            <a:off x="3786120" y="3657600"/>
            <a:ext cx="774720" cy="332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2860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e now have ten $10 notes. These can be exchanged for one $1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5"/>
          <p:cNvSpPr/>
          <p:nvPr/>
        </p:nvSpPr>
        <p:spPr>
          <a:xfrm>
            <a:off x="2338560" y="347184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6"/>
          <p:cNvSpPr/>
          <p:nvPr/>
        </p:nvSpPr>
        <p:spPr>
          <a:xfrm>
            <a:off x="2338560" y="385272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2338560" y="4191120"/>
            <a:ext cx="121896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8"/>
          <p:cNvSpPr/>
          <p:nvPr/>
        </p:nvSpPr>
        <p:spPr>
          <a:xfrm>
            <a:off x="2338560" y="4572000"/>
            <a:ext cx="12189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2338560" y="4919760"/>
            <a:ext cx="121896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6553080" y="5635800"/>
            <a:ext cx="12826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025960" y="3389400"/>
            <a:ext cx="30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w we just need to add one $100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2"/>
          <p:cNvSpPr/>
          <p:nvPr/>
        </p:nvSpPr>
        <p:spPr>
          <a:xfrm>
            <a:off x="10515600" y="4486320"/>
            <a:ext cx="121932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3"/>
          <p:cNvSpPr/>
          <p:nvPr/>
        </p:nvSpPr>
        <p:spPr>
          <a:xfrm flipH="1">
            <a:off x="2338560" y="3065400"/>
            <a:ext cx="1225440" cy="3944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74"/>
          <p:cNvSpPr/>
          <p:nvPr/>
        </p:nvSpPr>
        <p:spPr>
          <a:xfrm>
            <a:off x="2338560" y="3095640"/>
            <a:ext cx="1225440" cy="38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128520" y="3959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now have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270400" y="6172200"/>
            <a:ext cx="35686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… 297 + 103 =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990720" y="4419720"/>
            <a:ext cx="1218960" cy="490320"/>
          </a:xfrm>
          <a:prstGeom prst="rect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-0.89167 -0.09467 E">
                                      <p:cBhvr>
                                        <p:cTn id="23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1.05 0.07686 E">
                                      <p:cBhvr>
                                        <p:cTn id="25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1004760" y="274680"/>
          <a:ext cx="71344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74680"/>
                    <a:ext cx="7134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8229600" y="533520"/>
          <a:ext cx="59832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533520"/>
                    <a:ext cx="598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Box 1"/>
          <p:cNvSpPr/>
          <p:nvPr/>
        </p:nvSpPr>
        <p:spPr>
          <a:xfrm>
            <a:off x="152280" y="130644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these questions on your own.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y to imagine adding the ones, tens and hundreds in your head. If you get stuck you may need to use some play money to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609480" y="624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eed some more practise? Try Pg43 of Teacher Tools Addition and Subtraction Book </a:t>
            </a:r>
            <a:r>
              <a:rPr b="0" lang="en-N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umerac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228600" y="244944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38 + ? =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33 + ? =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99 + ? =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58 + ? =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13 + ? = 6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4114800" y="2057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lick again when you have completed each question and the answer will be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514600" y="2449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2514600" y="3287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2489040" y="412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254016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8"/>
          <p:cNvSpPr/>
          <p:nvPr/>
        </p:nvSpPr>
        <p:spPr>
          <a:xfrm>
            <a:off x="2514600" y="5773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2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22:55:53Z</dcterms:created>
  <dc:creator>Mike</dc:creator>
  <dc:description/>
  <dc:language>en-US</dc:language>
  <cp:lastModifiedBy>Mike</cp:lastModifiedBy>
  <dcterms:modified xsi:type="dcterms:W3CDTF">2011-01-04T20:29:38Z</dcterms:modified>
  <cp:revision>132</cp:revision>
  <dc:subject/>
  <dc:title>Slide 1</dc:title>
</cp:coreProperties>
</file>