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28E-B35A-45C4-B706-718B0054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46F0-7849-41AA-B31F-0435E595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0E6-C5E0-469B-B1AF-228A79F8D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8083-581E-412F-BDA1-AFCF163B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781-F6E6-42DC-9513-6E02BFD3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A86-377C-4976-A523-B8B508C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B65-C290-4C87-A18F-E903063E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978-D52F-487A-AFAB-73E42E41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708-980D-4BC5-B29F-114B31E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13B-B0CC-4201-955D-C04B1EE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7EF-95E4-4DEE-AD96-160ACB2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A81-B9D8-4C1F-A0DB-D94EC854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64B-3AF4-474F-933D-495EDB5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BB1-B68F-4A5E-A3A4-317A3C6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2B7-BC17-483A-9396-1644C2F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C39-4692-4046-8E3C-1DE87FA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6B0-9A16-4CB7-B41D-52A8CF6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D20B-7E42-4C90-A8D0-2A412FF1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62120" y="21780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a standard method of doing a subtraction problem on paper when the numbers are too difficult to find the answer ment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3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 you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657600" y="3581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umbers are set out directly below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 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013280" y="4348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- 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0"/>
          <p:cNvCxnSpPr/>
          <p:nvPr/>
        </p:nvCxnSpPr>
        <p:spPr>
          <a:xfrm>
            <a:off x="1218960" y="3099960"/>
            <a:ext cx="76680" cy="862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>
            <a:off x="3352680" y="2514240"/>
            <a:ext cx="534240" cy="1067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228600" y="15224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536 people at a sports game. 358 people are wearing black. How many people are not wearing bl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334120" y="181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36 - 35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28600" y="24271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 our first example let’s expand each number and write them undernea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43080" y="34513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00 + 30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6"/>
          <p:cNvSpPr/>
          <p:nvPr/>
        </p:nvSpPr>
        <p:spPr>
          <a:xfrm>
            <a:off x="343080" y="383220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300 + 50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7"/>
          <p:cNvSpPr/>
          <p:nvPr/>
        </p:nvSpPr>
        <p:spPr>
          <a:xfrm>
            <a:off x="1981080" y="310356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ones to subtract 8. This means we must break up a ten and add it to the s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9"/>
          <p:cNvSpPr/>
          <p:nvPr/>
        </p:nvSpPr>
        <p:spPr>
          <a:xfrm>
            <a:off x="1511280" y="41259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0"/>
          <p:cNvSpPr/>
          <p:nvPr/>
        </p:nvSpPr>
        <p:spPr>
          <a:xfrm>
            <a:off x="1981080" y="37479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ones. (16 – 8 =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2"/>
          <p:cNvSpPr/>
          <p:nvPr/>
        </p:nvSpPr>
        <p:spPr>
          <a:xfrm>
            <a:off x="990720" y="41259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5"/>
          <p:cNvSpPr/>
          <p:nvPr/>
        </p:nvSpPr>
        <p:spPr>
          <a:xfrm>
            <a:off x="419040" y="6383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+ 70 + 8 =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6"/>
          <p:cNvSpPr/>
          <p:nvPr/>
        </p:nvSpPr>
        <p:spPr>
          <a:xfrm>
            <a:off x="380880" y="4125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7"/>
          <p:cNvSpPr/>
          <p:nvPr/>
        </p:nvSpPr>
        <p:spPr>
          <a:xfrm>
            <a:off x="800280" y="41259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8"/>
          <p:cNvSpPr/>
          <p:nvPr/>
        </p:nvSpPr>
        <p:spPr>
          <a:xfrm>
            <a:off x="1308240" y="41241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152280" y="5921280"/>
            <a:ext cx="65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7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bottom line together to get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9"/>
          <p:cNvSpPr/>
          <p:nvPr/>
        </p:nvSpPr>
        <p:spPr>
          <a:xfrm>
            <a:off x="3613320" y="6359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36 – 358 =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14480" y="3819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"/>
          <p:cNvSpPr/>
          <p:nvPr/>
        </p:nvSpPr>
        <p:spPr>
          <a:xfrm flipH="1">
            <a:off x="1104840" y="3451320"/>
            <a:ext cx="24120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2"/>
          <p:cNvSpPr/>
          <p:nvPr/>
        </p:nvSpPr>
        <p:spPr>
          <a:xfrm flipH="1">
            <a:off x="1549440" y="3465360"/>
            <a:ext cx="241200" cy="343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990720" y="32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384200" y="326880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52280" y="445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tens to subtract 50. This means we must break up a hundred and add it to the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36"/>
          <p:cNvSpPr/>
          <p:nvPr/>
        </p:nvSpPr>
        <p:spPr>
          <a:xfrm flipH="1">
            <a:off x="520200" y="3440160"/>
            <a:ext cx="24156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7"/>
          <p:cNvSpPr/>
          <p:nvPr/>
        </p:nvSpPr>
        <p:spPr>
          <a:xfrm flipH="1">
            <a:off x="1054080" y="3287880"/>
            <a:ext cx="241200" cy="34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36600" y="307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927000" y="3044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0"/>
          <p:cNvSpPr/>
          <p:nvPr/>
        </p:nvSpPr>
        <p:spPr>
          <a:xfrm>
            <a:off x="152280" y="5068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tens. (120 – 50 =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1"/>
          <p:cNvSpPr/>
          <p:nvPr/>
        </p:nvSpPr>
        <p:spPr>
          <a:xfrm>
            <a:off x="152280" y="549756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6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hundreds. (400 – 300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6"/>
          <p:cNvSpPr/>
          <p:nvPr/>
        </p:nvSpPr>
        <p:spPr>
          <a:xfrm>
            <a:off x="228600" y="15224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732 people in the hall. 309 people left through Door One. How many people did not leave through Door 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638680" y="180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32 - 30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90440" y="23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let’s try the same algorithm without expanding th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049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 3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3049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3 0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1371600" y="3095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re are not enough ones to subtract 9. This means we must break up a ten and add it to th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98400" y="38228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95360" y="31240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1397160" y="382104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subtract the ones. (12 – 9 =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95360" y="3822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3"/>
          <p:cNvSpPr/>
          <p:nvPr/>
        </p:nvSpPr>
        <p:spPr>
          <a:xfrm>
            <a:off x="190440" y="43783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 the tens. (2 tens – 0 tens = 2 t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79360" y="382284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2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3"/>
          <p:cNvSpPr/>
          <p:nvPr/>
        </p:nvSpPr>
        <p:spPr>
          <a:xfrm flipH="1">
            <a:off x="723960" y="3449520"/>
            <a:ext cx="203040" cy="182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3"/>
          <p:cNvSpPr/>
          <p:nvPr/>
        </p:nvSpPr>
        <p:spPr>
          <a:xfrm flipH="1">
            <a:off x="558360" y="3449520"/>
            <a:ext cx="203400" cy="182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22440" y="30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228600" y="4735440"/>
            <a:ext cx="742968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ice how we just record a 2 in the tens column. Not a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8"/>
          <p:cNvSpPr/>
          <p:nvPr/>
        </p:nvSpPr>
        <p:spPr>
          <a:xfrm>
            <a:off x="228600" y="5345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 the hundreds. (7 hundreds – 3 hundreds = 4 hundr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266760" y="5727600"/>
            <a:ext cx="74293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ice how we just record a 4 in the hundreds column. Not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304920" y="6400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ottom line is the answer. </a:t>
            </a:r>
            <a:r>
              <a:rPr b="0" lang="en-NZ" sz="1800" spc="-1" strike="noStrike">
                <a:solidFill>
                  <a:srgbClr val="ff9900"/>
                </a:solidFill>
                <a:latin typeface="Arial"/>
              </a:rPr>
              <a:t>42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1"/>
          <p:cNvSpPr/>
          <p:nvPr/>
        </p:nvSpPr>
        <p:spPr>
          <a:xfrm>
            <a:off x="4419720" y="640080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732 – 309 = 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will need to use pen and paper to record your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60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42 - 23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37 - 18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23 - 14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65 - 20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52 – 20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4:54:53Z</dcterms:modified>
  <cp:revision>161</cp:revision>
  <dc:subject/>
  <dc:title>Slide 1</dc:title>
</cp:coreProperties>
</file>