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557F-4E48-4AF3-A5F8-7B15B9DB1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E94B-8A82-45BD-96A7-5D8348308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DD5A-0EA8-40FE-8F41-5E30F1A3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FEED-756B-46AE-B329-0667A949A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8679-4A21-4B75-9394-80E79662D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B02-A0AE-4F86-BE8B-89EB5AEC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80E-A454-400D-90DB-B387E05B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879-4402-4E27-A992-D8FCA570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D94-5472-49BC-9386-1BE060F3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22A-544B-4AD0-B3AF-B26248C1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5DB-5DA0-40EB-9278-CCE85214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299-B844-46E5-B1D3-F62F10E4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A34-C9B5-45B7-A548-9C4CC5C6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F0D-401C-466D-A36F-90A34EE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304-53E2-47B7-A91F-E0DC44C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2F7-1630-4A57-A710-E8F3D8E6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8DB-F6CF-4191-A7DC-1CCBB530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E85-262B-4C1A-A8FB-DCAD22AB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62120" y="2178000"/>
            <a:ext cx="69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a standard method of doing a subtraction problem on paper when the numbers are too difficult to find the answer ment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335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 you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657600" y="3581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umbers are set out directly below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.g.  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4013280" y="4348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- 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10"/>
          <p:cNvCxnSpPr/>
          <p:nvPr/>
        </p:nvCxnSpPr>
        <p:spPr>
          <a:xfrm>
            <a:off x="1218960" y="3099960"/>
            <a:ext cx="76680" cy="8629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58" name="Straight Arrow Connector 12"/>
          <p:cNvCxnSpPr/>
          <p:nvPr/>
        </p:nvCxnSpPr>
        <p:spPr>
          <a:xfrm>
            <a:off x="3352680" y="2514240"/>
            <a:ext cx="534240" cy="10674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6"/>
          <p:cNvSpPr/>
          <p:nvPr/>
        </p:nvSpPr>
        <p:spPr>
          <a:xfrm>
            <a:off x="228600" y="15224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536 people at a sports game. 358 people are wearing black. How many people are not wearing blac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5334120" y="181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36 - 35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228600" y="24271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or our first example let’s expand each number and write them undernea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343080" y="34513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00 + 30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6"/>
          <p:cNvSpPr/>
          <p:nvPr/>
        </p:nvSpPr>
        <p:spPr>
          <a:xfrm>
            <a:off x="343080" y="383220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300 + 50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7"/>
          <p:cNvSpPr/>
          <p:nvPr/>
        </p:nvSpPr>
        <p:spPr>
          <a:xfrm>
            <a:off x="1981080" y="310356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are not enough ones to subtract 8. This means we must break up a ten and add it to the s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9"/>
          <p:cNvSpPr/>
          <p:nvPr/>
        </p:nvSpPr>
        <p:spPr>
          <a:xfrm>
            <a:off x="1511280" y="41259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0"/>
          <p:cNvSpPr/>
          <p:nvPr/>
        </p:nvSpPr>
        <p:spPr>
          <a:xfrm>
            <a:off x="1981080" y="37479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subtract the ones. (16 – 8 =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2"/>
          <p:cNvSpPr/>
          <p:nvPr/>
        </p:nvSpPr>
        <p:spPr>
          <a:xfrm>
            <a:off x="990720" y="41259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35"/>
          <p:cNvSpPr/>
          <p:nvPr/>
        </p:nvSpPr>
        <p:spPr>
          <a:xfrm>
            <a:off x="419040" y="6383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0 + 70 + 8 = 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6"/>
          <p:cNvSpPr/>
          <p:nvPr/>
        </p:nvSpPr>
        <p:spPr>
          <a:xfrm>
            <a:off x="380880" y="41259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7"/>
          <p:cNvSpPr/>
          <p:nvPr/>
        </p:nvSpPr>
        <p:spPr>
          <a:xfrm>
            <a:off x="800280" y="41259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8"/>
          <p:cNvSpPr/>
          <p:nvPr/>
        </p:nvSpPr>
        <p:spPr>
          <a:xfrm>
            <a:off x="1308240" y="41241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152280" y="5921280"/>
            <a:ext cx="65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7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 the bottom line together to get you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9"/>
          <p:cNvSpPr/>
          <p:nvPr/>
        </p:nvSpPr>
        <p:spPr>
          <a:xfrm>
            <a:off x="3613320" y="6359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36 – 358 = 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14480" y="3819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"/>
          <p:cNvSpPr/>
          <p:nvPr/>
        </p:nvSpPr>
        <p:spPr>
          <a:xfrm flipH="1">
            <a:off x="1104840" y="3451320"/>
            <a:ext cx="241200" cy="34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2"/>
          <p:cNvSpPr/>
          <p:nvPr/>
        </p:nvSpPr>
        <p:spPr>
          <a:xfrm flipH="1">
            <a:off x="1549440" y="3465360"/>
            <a:ext cx="241200" cy="343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990720" y="3247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1384200" y="326880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152280" y="4459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are not enough tens to subtract 50. This means we must break up a hundred and add it to the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36"/>
          <p:cNvSpPr/>
          <p:nvPr/>
        </p:nvSpPr>
        <p:spPr>
          <a:xfrm flipH="1">
            <a:off x="520200" y="3440160"/>
            <a:ext cx="241560" cy="34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37"/>
          <p:cNvSpPr/>
          <p:nvPr/>
        </p:nvSpPr>
        <p:spPr>
          <a:xfrm flipH="1">
            <a:off x="1054080" y="3287880"/>
            <a:ext cx="241200" cy="34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36600" y="3078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927000" y="3044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0"/>
          <p:cNvSpPr/>
          <p:nvPr/>
        </p:nvSpPr>
        <p:spPr>
          <a:xfrm>
            <a:off x="152280" y="50688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5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subtract the tens. (120 – 50 = 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1"/>
          <p:cNvSpPr/>
          <p:nvPr/>
        </p:nvSpPr>
        <p:spPr>
          <a:xfrm>
            <a:off x="152280" y="549756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6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subtract the hundreds. (400 – 300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6"/>
          <p:cNvSpPr/>
          <p:nvPr/>
        </p:nvSpPr>
        <p:spPr>
          <a:xfrm>
            <a:off x="228600" y="15224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732 people in the hall. 309 people left through Door One. How many people did not leave through Door On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5638680" y="180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32 - 309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190440" y="2333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let’s try the same algorithm without expanding the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049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 3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3049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3 0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1371600" y="30956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are not enough ones to subtract 9. This means we must break up a ten and add it to the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98400" y="382284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95360" y="312408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1397160" y="382104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subtract the ones. (12 – 9 =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95360" y="3822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3"/>
          <p:cNvSpPr/>
          <p:nvPr/>
        </p:nvSpPr>
        <p:spPr>
          <a:xfrm>
            <a:off x="190440" y="437832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btract the tens. (2 tens – 0 tens = 2 t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79360" y="382284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5228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3"/>
          <p:cNvSpPr/>
          <p:nvPr/>
        </p:nvSpPr>
        <p:spPr>
          <a:xfrm flipH="1">
            <a:off x="723960" y="3449520"/>
            <a:ext cx="203040" cy="182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3"/>
          <p:cNvSpPr/>
          <p:nvPr/>
        </p:nvSpPr>
        <p:spPr>
          <a:xfrm flipH="1">
            <a:off x="558360" y="3449520"/>
            <a:ext cx="203400" cy="182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622440" y="30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228600" y="4735440"/>
            <a:ext cx="742968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tice how we just record a 2 in the tens column. Not a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8"/>
          <p:cNvSpPr/>
          <p:nvPr/>
        </p:nvSpPr>
        <p:spPr>
          <a:xfrm>
            <a:off x="228600" y="53452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5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btract the hundreds. (7 hundreds – 3 hundreds = 4 hundre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266760" y="5727600"/>
            <a:ext cx="74293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tice how we just record a 4 in the hundreds column. Not 4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304920" y="64008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ottom line is the answer. </a:t>
            </a:r>
            <a:r>
              <a:rPr b="0" lang="en-NZ" sz="1800" spc="-1" strike="noStrike">
                <a:solidFill>
                  <a:srgbClr val="ff9900"/>
                </a:solidFill>
                <a:latin typeface="Arial"/>
              </a:rPr>
              <a:t>423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1"/>
          <p:cNvSpPr/>
          <p:nvPr/>
        </p:nvSpPr>
        <p:spPr>
          <a:xfrm>
            <a:off x="4419720" y="6400800"/>
            <a:ext cx="22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732 – 309 = 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will need to use pen and paper to record your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60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412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42 - 23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37 - 18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23 - 14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65 - 20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52 – 20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2489040" y="412596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2540160" y="49528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4:54:53Z</dcterms:modified>
  <cp:revision>161</cp:revision>
  <dc:subject/>
  <dc:title>Slide 1</dc:title>
</cp:coreProperties>
</file>